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32D3-BECE-41B6-B264-D95A7CDED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1291-9891-4195-AB96-E5F880097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3081-33D4-496A-97AB-42FD22CF4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8630-52B0-444D-ADD2-5310A968D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0F18-C257-4E89-8429-B128AE012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18F9-F01D-415E-B727-080CA83C6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5C3B-0211-45AD-9600-35E94A568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502B-D0DD-4278-A4CA-7CC6A209B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9DC4-4524-4872-9CDC-CAB140102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A490-E51E-4CEF-81B7-7E7BD9F2D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E4EB-6759-455A-AB7E-A3EE0737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2F8A-02C8-48A7-A3F0-507B37E1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D10C9-C122-4E3A-B260-56F6A9913A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200400" y="685800"/>
            <a:ext cx="2743200" cy="5477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648320" y="4038480"/>
            <a:ext cx="838080" cy="16765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16200000">
            <a:off x="4159080" y="4476600"/>
            <a:ext cx="180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DSO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t matching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33920" y="4038480"/>
            <a:ext cx="838080" cy="16765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6200000">
            <a:off x="3307320" y="4546080"/>
            <a:ext cx="167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SRAM Bfly &amp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Iread macr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731760" y="3276720"/>
            <a:ext cx="1823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S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Array leakage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5400000">
            <a:off x="4152960" y="2781360"/>
            <a:ext cx="838080" cy="16761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57600" y="1219320"/>
            <a:ext cx="457200" cy="1752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14800" y="1219320"/>
            <a:ext cx="914400" cy="9144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114800" y="2133720"/>
            <a:ext cx="533520" cy="9144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29200" y="1143000"/>
            <a:ext cx="304920" cy="9144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8320" y="2133720"/>
            <a:ext cx="685800" cy="9144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57600" y="2971800"/>
            <a:ext cx="457200" cy="2286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648320" y="4038480"/>
            <a:ext cx="838080" cy="167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6200000">
            <a:off x="4142160" y="4547520"/>
            <a:ext cx="175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wm_vtmm_macro_fdsoi180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733920" y="4038480"/>
            <a:ext cx="838080" cy="167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16200000">
            <a:off x="3261960" y="458604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wm_bfly_macro_fdsoi18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733920" y="3276720"/>
            <a:ext cx="16761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wm_alm_macro_fdsoi18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5400000">
            <a:off x="4152960" y="2781360"/>
            <a:ext cx="838080" cy="1676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733920" y="1219320"/>
            <a:ext cx="457200" cy="1752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191120" y="1219320"/>
            <a:ext cx="91440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191120" y="2133720"/>
            <a:ext cx="53316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05520" y="1143000"/>
            <a:ext cx="30456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724280" y="2133720"/>
            <a:ext cx="68580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33920" y="2971800"/>
            <a:ext cx="457200" cy="228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160" y="380880"/>
            <a:ext cx="33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in Chip block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268160" y="1676520"/>
            <a:ext cx="83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GG_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191120" y="1981080"/>
            <a:ext cx="5331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92600" y="251460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jfb_a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16200000">
            <a:off x="4767840" y="1505880"/>
            <a:ext cx="97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Yw_buck_fi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6200000">
            <a:off x="3074400" y="2054880"/>
            <a:ext cx="170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ac_topLevelNBTIsens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363760" y="2590920"/>
            <a:ext cx="131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Kc_inv_ch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00400" y="289548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143000" y="209520"/>
            <a:ext cx="6705720" cy="66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17:54:19Z</dcterms:created>
  <dc:creator>rmann</dc:creator>
  <dc:description/>
  <dc:language>en-US</dc:language>
  <cp:lastModifiedBy>rmann</cp:lastModifiedBy>
  <dcterms:modified xsi:type="dcterms:W3CDTF">2010-05-11T14:23:32Z</dcterms:modified>
  <cp:revision>6</cp:revision>
  <dc:subject/>
  <dc:title>Slide 1</dc:title>
</cp:coreProperties>
</file>